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5AA-5CCC-4992-AD74-3129C4E2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2A5-B066-41EB-8A83-9A822E2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7E1-EE14-4EE6-9AC0-6E220BFC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A91-B4AA-4D79-97A1-783EBA96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30E-4F10-44E0-BC66-D852712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5A8-1FAD-4A62-B25E-3869337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116-3AF4-4150-AC7B-421440E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645-6B42-47C8-BBCF-8A5D5B3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520-DB12-4C8D-BEAC-9E50F19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7B0-5295-454A-B744-4472D37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AAC-9161-4BAE-88F3-5272394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1B6-6654-458E-B79E-999039D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E8C-7A65-4242-BFD3-0DF586E2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in idea of the TED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wo or three sentences help suppor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40048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talk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2478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describe the speaker’s 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entences help suppor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240048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1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315000"/>
            <a:ext cx="7601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YOUR TU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sentially, this TED Talk argues that the end result is more important than the steps taken to achieve that result. Do you agree? Why or why n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rainstorm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lect on the reason for the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HEY SAY/I SAY pattern will you u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words can you use to interest your read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pose your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rite about 150-200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at least ONE direct qu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read and revise your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HREE words needs to be changed to be more infl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ONE sentence must be rev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26:41Z</dcterms:created>
  <dc:creator>hunterdon central</dc:creator>
  <dc:description/>
  <dc:language>en-US</dc:language>
  <cp:lastModifiedBy>hunterdon central</cp:lastModifiedBy>
  <dcterms:modified xsi:type="dcterms:W3CDTF">2013-11-16T13:23:50Z</dcterms:modified>
  <cp:revision>4</cp:revision>
  <dc:subject/>
  <dc:title>Chapter 20</dc:title>
</cp:coreProperties>
</file>